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054-6A88-4D2C-97FF-E72E17A1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056-5D40-4663-A8BF-30DD7A9B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0F1-55CE-4F9B-8B33-B159FF7C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1D1-2F74-43BD-A884-42FEA352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59F3-E304-4675-B3B8-1044C486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693E-0481-4D1E-98DE-BE67100D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9B28-E6F0-48DD-B22D-E60B69F8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6DEA-DF78-4FCA-8EC8-6C5BA7C7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E034-BF02-48F3-A4A0-F619B525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5EA6-A951-4AD8-9764-EEF5AAED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848A-0B87-48F6-829C-F0EDCC33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5F2-94B6-4B7F-AD35-871DADCF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CB0A-EB67-4643-80D7-AE8DF4C8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45A0-DBD6-4AC2-89D1-C47EAF55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A5A5-DAD2-44F9-B252-80E60EE2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E004-98B7-4F7A-AAC0-A7DB2248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16A9-BD72-462C-B28F-09C14334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94C-AF73-43A2-BEDE-6437C788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041-7FDA-4707-89DB-5D77399F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794-B6EB-4481-AB41-2DD45C7A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B3F-B196-40AB-9E9C-F1ED20DC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79C-1666-4108-A0F9-0A001B26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672-D9EA-4057-AC70-5F53D559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066-FF3E-4E0A-BEB0-E2E6AE4E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258920" y="6248520"/>
            <a:ext cx="3309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CF53-D139-435F-92A1-37AE4E38396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520"/>
            <a:ext cx="4078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1182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FA44-8AB9-42DA-9D96-300F641B80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boratori territoriali per raccordo domanda offerta di formazione e lavoro – Fondo di perequazione 2006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E162-B540-433C-9D37-C92E3545A4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zione c) Sviluppo dei percorsi di alternanza scuola-lavo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o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nsolidare il ruolo delle C.C.I.A.A. nella promozione della modalità didattica dell’alternanza scuola-lavor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CE9-9AA1-4B43-BD3B-8501CEB180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zione c) Sviluppo dei percorsi di alternanza scuola-lavo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18 progetti di alternanza scuola-lavoro (2 per provinci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3 corsi di “formazione Formatori” Tutor Alternanza S-L di 5 moduli ciascu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4 giornate formative per gli operatori camerali – argomenti da approfondire: Poli Tecnici, Alternanza scuola-lavoro, Orientamento professionale e scolastico, Osservatorio Imprese, Sportello Polaris, Laboratori Territoriali, Sistema informativo Excelsior; implementazione del piano operativo – fondo di perequazione 2006 a sostegno delle azioni previs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F9A-D5BE-4AFD-B1D9-9B00D2E0A7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iettiv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OBIETTIVO GENERA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e Camere di commercio dell’Emilia-Romagna, sulla base del ruolo acquisito attraverso lo sviluppo del Sistema informativo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Excelsior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e l’attivazione dei percorsi di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alternanza scuola-lavoro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, mirano a svolgere sul territorio provinciale una funzione rilevante per favorire e fluidificare le dinamiche d’incontro tra domanda e offerta di formazione e lavoro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OBIETTIVI DEL PROGET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) attivazione di Laboratori territoriali permanenti (o Comitati territoriali) per l’incontro domanda-offerta di formazione e lavoro, formazione continu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b) supporto all’orientamento formativo e professionale per favorire le scelte degli studenti e delle persone in cerca d’occupazione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) Sviluppo dei percorsi di alternanza scuola-lavo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36A-0CB1-47F5-A4BE-7EE4CFAD0C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Laboratori territoriali permanenti per l’incontro domanda-offerta di formazione e 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far emergere i fabbisogni di professionalità e le competenze necessarie per lo sviluppo della competitività delle imprese; migliorare la capacità di risposta dei vari sistemi formativi (scuola, università, formazione professionale e formazione continua) ai fabbisogni espressi dalle impre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6BD-8C06-4C35-8D52-DDC806984C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Laboratori territoriali permanenti per l’incontro domanda-offerta di formazione e 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ttività previst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nalisi e documentazione territorial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(analisi sui fabbisogni di profili professionali delle aziende nei settori produttivi– DATI EXCELSIOR - individuati con le  C.C.I.A.A., con  identificazione e selezione dei profili-chiave; descrizione dei profili-chiave in termini di attività; identificazione e descrizione delle competenze chiave necessarie per svolgere le stesse attività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Focus group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, con 2 moderatori e 5/6 rappresentanti degli universi professionali aziendali maggiormente rappresentativi del territorio per f.g., per valutare le analisi di cui al punto 1 e fare proposte per focalizzare i loro fabbisog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Interviste in profondit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: rivolte a specialisti della formazione nei settori di indagine a livello territori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6041-E200-46CA-88AD-F90446821A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Laboratori territoriali permanenti per l’incontro domanda-offerta di formazione e 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RISULTATI  ATTESI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  Schematizzazione dati Excelsior per il sostegno alla programmazione formativa e aziendale presso istituzioni e imprese;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 sistematizzazione delle indicazioni emerse nei focus group e confronto con i dati di analisi della fase 1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 articolazione e proposta al tavolo delle partnership provinciali di un menù formativo per unità didattiche da sviluppare nelle aziende o nei settori coinvolti nei Laboratori Formativi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9 Report di ricerca, 1 per ogni Laboratorio provincia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1 Report integrativo e sintetico sull’insieme dei Laboratori Territoriali condott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221-0BAC-42C2-A509-3BE653D893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;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favorire la maturazione di scelte personali e professionali soddisfacenti per la persona e realizzabili nei contesti socio-economici di riferimento, con particolare attenzione alle tecniche di ricerca attiva dell’inserimento lavorativ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6D4-AB9D-4D7D-98EB-7323906438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;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tività previ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 incontri orientativi misti di primo livello per ciascuna Camera di commercio rivolti a un’utenza interessata ad incontrare il mondo delle aziende locali e conoscere le tipologie di competenze professionali maggiormente richieste dalle impres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mozione a livello locale sfruttando tutti i canali di comunicazione a disposizione del sistema camerale (sito web, newsletter, circolari informative, pubblicità sui giornali local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833-8793-4D82-981E-0A7814B300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pologia di incontr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Accoglienz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Sessioni Informative su presentazione della rete Camerale  e dei servizi che offre, analisi del mercato del lavoro e delle professioni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crizione della struttura e degli obiettivi dei percorsi finanziati di “Formazione Alta e Superiore” e di “Istruzione e Formazione Tecnico Superiore” (IFTS), illustrando nello specifico gli eventuali corsi che al momento sono stati approvati e ai quali è possibile iscriversi; le proposte di Alta Formazione post-laurea: i Mas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cniche di ricerca attiva di lavo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rocinio Formativo o Orient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rvizi camerali a sostegno dell’inserimento lav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lloqui individuali conoscitivi e di orientamento personalizzato su richiest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902-C663-47AF-BD24-0B6CCD6244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3366"/>
                </a:solidFill>
                <a:latin typeface="Arial"/>
              </a:rPr>
              <a:t>Esperienze pregresse di seminari di primo orientament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esentazione dell’attuale situazione del mercato del lavoro (ci focalizzeremo in particolare sulla regione Emilia Romagna) degli strumenti e delle modalità per entrare nel mondo del lavoro,  dei profili professionali maggiormente richies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enni sulle tecniche di ricerca attiva del lavoro (come compilare un curriculum, come affrontare un colloquio di selezione, come rispondere ad un annuncio ecc) - approfondimenti offerti anche dal sistema camerale (Ad es.al Job Club, un servizio individualizzato che supporta l’utente in un breve percorso di orientamento finalizzato alla ricerca attiva del lavor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tirocinio come esperienza professionalizzante: differenza tra stage e tirocinio formativo, potenzialità dello strument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esentazione delle offerte della settimana (profili professionali richiesti dalle aziende per il tirocinio, eventuale focus su corsi in partenza, ecc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olloquio conoscitivo / orientativo (al termine dell’incontro inform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D08-C3A5-4B65-A8D0-2C379043B1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0:13:59Z</dcterms:created>
  <dc:creator>lenzi</dc:creator>
  <dc:description/>
  <dc:language>en-US</dc:language>
  <cp:lastModifiedBy>lenzi</cp:lastModifiedBy>
  <dcterms:modified xsi:type="dcterms:W3CDTF">2009-07-02T15:43:08Z</dcterms:modified>
  <cp:revision>6</cp:revision>
  <dc:subject/>
  <dc:title>Laboratori territoriali per raccordo domanda offerta di formazione e lavoro – Fondo di perequazione 2006</dc:title>
</cp:coreProperties>
</file>